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CE0E-877F-4A9A-AB16-5F29499D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CD37-BDA4-40E8-8D29-39A807B7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88F9-EA8F-4DD8-98AC-5C365F8ED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C946-6094-4CC8-B2A9-5817CCE16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3213-5738-413E-B2DE-1BF2FB61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0022-141C-46BC-92F4-2896CB69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3E86-15C6-4A79-BCFF-DD5995D8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B10A-F588-4DF9-ACE7-228FA0E5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1EED-BF3E-4BAD-AAA1-097C5EEF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F61F-1117-4D15-9A9B-5FCC20D5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089A-D52C-4627-8666-6A4BA9DC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7FE3-697D-4B89-83F6-287CFA56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55E2-9449-462D-A555-22EEE080A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anoke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st Colony</a:t>
            </a:r>
            <a:br>
              <a:rPr sz="3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88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8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anoke Is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where the Roanoke island is loca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be found in the Americas off the coast of what is now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rth Caroli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and came here in search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o see if it was rich in natural resour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250px-Roanoke_map_1584"/>
          <p:cNvPicPr/>
          <p:nvPr/>
        </p:nvPicPr>
        <p:blipFill>
          <a:blip r:embed="rId1"/>
          <a:stretch/>
        </p:blipFill>
        <p:spPr>
          <a:xfrm>
            <a:off x="5181480" y="160020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en Elizabeth The Fi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en Elizabeth ruled England from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558 to 160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wanted to establish colonies in th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meric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lony at Roanoke island was her first attem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FZCCA59F9W5CA9H9VIACAWMMXZMCAHMQI8XCAT1TPWXCAO1H5GQCA903ZVBCAJLQT7QCAV82PMACAKJ8RM8CA6OGIY9CA5N4788CA8N061KCAIJF2OCCAWJMN8MCAY9JG9PCAXC7AVCCAG0MHY1CA8Z0XQW"/>
          <p:cNvPicPr/>
          <p:nvPr/>
        </p:nvPicPr>
        <p:blipFill>
          <a:blip r:embed="rId1"/>
          <a:stretch/>
        </p:blipFill>
        <p:spPr>
          <a:xfrm>
            <a:off x="5257800" y="1676520"/>
            <a:ext cx="312408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Colon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group colonists were sent to Roanoke Island i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58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ople that were sent there faced a difficult winter and had trouble finding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yea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58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lonist returned to there original homes in England due to star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Wh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158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ohn Whi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d more than 100 men, women, and children to Roanoke Isl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is colony struggled as well and soon ran out of suppl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John returned to  England for hel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he reached England he found that the country was at war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y couldn’t give him any more suppl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cn3439_white"/>
          <p:cNvPicPr/>
          <p:nvPr/>
        </p:nvPicPr>
        <p:blipFill>
          <a:blip r:embed="rId1"/>
          <a:stretch/>
        </p:blipFill>
        <p:spPr>
          <a:xfrm>
            <a:off x="5257800" y="1752480"/>
            <a:ext cx="31240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ost Tri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White couldn’t go back to Roanoke Island until Augus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59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t when he got there everyone had disappea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ly clue John White found was the word “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roato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 carved onto a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roato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an American Indian group that lived near Roanoke Is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anish Arm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58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ing Phillip decided to attack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assembled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anish Arma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was a huge fleet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ar shi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English navy had faster ships and more powerful guns which led them to vic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Armada1"/>
          <p:cNvPicPr/>
          <p:nvPr/>
        </p:nvPicPr>
        <p:blipFill>
          <a:blip r:embed="rId1"/>
          <a:stretch/>
        </p:blipFill>
        <p:spPr>
          <a:xfrm>
            <a:off x="4724280" y="1523880"/>
            <a:ext cx="3124440" cy="2262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Armada2"/>
          <p:cNvPicPr/>
          <p:nvPr/>
        </p:nvPicPr>
        <p:blipFill>
          <a:blip r:embed="rId2"/>
          <a:stretch/>
        </p:blipFill>
        <p:spPr>
          <a:xfrm>
            <a:off x="4724280" y="4114800"/>
            <a:ext cx="3133800" cy="2198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68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68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68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68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e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he__Lost__Colony__Sir_Walter_Raleigh_Establishes_the_English_Colony_of_Virginia.asf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153640" cy="555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2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5:04:00Z</dcterms:created>
  <dc:creator>student</dc:creator>
  <dc:description/>
  <dc:language>en-US</dc:language>
  <cp:lastModifiedBy>UrsinyK</cp:lastModifiedBy>
  <dcterms:modified xsi:type="dcterms:W3CDTF">2010-03-05T19:24:15Z</dcterms:modified>
  <cp:revision>6</cp:revision>
  <dc:subject/>
  <dc:title>Roanoke The Lost Colony</dc:title>
</cp:coreProperties>
</file>